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C62-5072-4721-BDF8-8EB9D2C5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0A9-58E7-4037-95F3-6150C29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84F-E559-4A51-B8E6-9775F915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142-829C-4940-90F4-3642B53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24A-67ED-499F-B7AD-45171A4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50D-D71C-46BE-97A2-749C627D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50D-9823-456B-9461-23C06F9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548-3A3D-4D7E-AC3E-9CD3D5D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335-D2E8-4283-A5A4-DA86258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118-58A7-46DB-AB77-16E1615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0C5-9CB9-4D36-B868-E530793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AC9-0940-4B7A-967C-9127FA4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A0C8-16F1-4A1D-90B7-1BAB23BA3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1631880" y="2303640"/>
          <a:ext cx="7267680" cy="39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2303640"/>
                    <a:ext cx="72676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"/>
          <p:cNvSpPr/>
          <p:nvPr/>
        </p:nvSpPr>
        <p:spPr>
          <a:xfrm>
            <a:off x="1721520" y="621972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52120" y="90792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58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5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0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2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58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29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48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3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4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3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79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18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1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1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4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5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0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5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z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384120" y="1236600"/>
          <a:ext cx="8386920" cy="37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8386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6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3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6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8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19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0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3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7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0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2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5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68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6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1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4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7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1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6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09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4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4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3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46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65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0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3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38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9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0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3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2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9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7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7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1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9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667560" y="29703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0" y="1338120"/>
            <a:ext cx="7421400" cy="4881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0560" y="31971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3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7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38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1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4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tero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2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5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4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3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5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7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9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1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3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5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6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8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0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097" name=""/>
            <p:cNvSpPr/>
            <p:nvPr/>
          </p:nvSpPr>
          <p:spPr>
            <a:xfrm>
              <a:off x="6352200" y="2517840"/>
              <a:ext cx="19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³¹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4-22T08:47:24Z</dcterms:modified>
  <cp:revision>60</cp:revision>
  <dc:subject/>
  <dc:title>Wzmacniacze mocy</dc:title>
</cp:coreProperties>
</file>